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6DC-E6A1-4981-910B-A4FFDE2F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02D-6012-41A1-BD42-E93F415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2C3-47AF-4392-BA92-F082ECDA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71E-E263-4622-9DC3-DC096E19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1466-2C96-46BC-B686-8A3E8E43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EFD-047B-4869-B1A8-63A871E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D513-C256-485F-BBE4-CD4DAEBD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E33-770E-4985-8CAC-13938B9D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E8E5-1370-41F6-B1F9-10BDABB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610D-5AD2-412D-81A7-88776B9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5A5-6E8D-446B-BD42-D5D4052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E2D-9A68-4A06-B8C2-B6A881C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AD61-8F6B-4FA0-9B78-C6D164D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DC80-F87B-4257-A7CD-AEFA61A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BBC7-A0B1-4EB5-8574-F70BA6B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88C-665E-47EC-82EB-B085806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15C0-539C-4AEB-BE42-24592AB1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475-4B66-4ECB-BC9E-DD56DAD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FF9-3831-440C-BD16-C2BB919B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8FC-38B5-4941-997A-F964929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0B6-6E7E-4F39-BB29-737F3E4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26F-D11B-440D-93B1-0235266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EAA-1F58-46C8-BA49-A65B5B9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707-8035-4895-8CC5-58DC8A7D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18D-8134-4AFF-AA13-795A54A7555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6F5-008F-4EA3-980F-344D12E33DC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V: Dissemination: Reporting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mitation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research can be the base for other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ocu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ignificance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\Lorenza action research Al Bayan S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structure and organization of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ritten as last part but after title in impag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and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a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ort must be organized in a way that one part lead to the other and it is easy for the reader to understand and follow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layout: Cover (title, date, place), page numbers, table of content, consistency in headings (1,2,3..) (font, size, style), headings 1 or new chapter always in a new page, don’t leave orphan or widow lines, IBC model, correct bibli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ifferent ways of reporting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urpose of the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ization and structure of a written research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sing technology to report a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Different ways of reporting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l Written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very attractive way to present find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 can show the proces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would need some explan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dispersive and not let audience focus on the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Audio 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use  to report a story summary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ful when some interesting data came up in interviews where to listen to the answer can clarify the interpretation of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converted to a pod cast so the listener can take it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l written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it fits more to long scientific researches published on scientific journals and 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can be included as evid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can also be used, formatted in a simple way as completion of a power-point pres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Point 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present findings face to 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presents just the main ideas (usually followed by a written repo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ows interaction between presenter and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the present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background and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headings on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 language, tone of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nt: style, size, consisten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6:21Z</dcterms:modified>
  <cp:revision>98</cp:revision>
  <dc:subject/>
  <dc:title>Course: Fundamentals of Research</dc:title>
</cp:coreProperties>
</file>